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ADB-5DE0-49E3-9AD7-1D829799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B27-88ED-40DC-9E62-3222999B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CCE7C-C898-43FC-B8A4-895BFBB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997B9-0F18-4AAC-876A-65BD295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0B7EA-6082-42B8-93CF-B0C45E1A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7C45A-F126-45D3-92D8-776D0EE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554F-9E65-4A48-B063-823ABDD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6C1A3-2DE7-4533-B133-46856E2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573C-F802-4FA2-A6CD-779DB1AB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6ACC-7919-4EF3-B2DA-B6A34B5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391E0-B486-4201-A03C-16E32DDE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F95A-7762-4B09-8586-FAA930CE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3D0-B0E8-4B5F-B6E6-B600A409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0760C-B765-4AF8-9707-C321C63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2600D-835D-44B2-89BB-103B0061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D9490-0E2A-4A2F-B7FE-84D92AA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DD0D0-8469-412A-B861-310BCF3C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8584-A832-4FA9-BA0A-98E2AE38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8F234-48D4-41ED-8A22-2DF8856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6123-186A-4444-B434-2786C49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85966-F038-4EE5-920B-4EA2C9F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62F41-7C08-4A21-8216-E910CA2F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741D-B300-4547-9917-2DD99D46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DAA-D7C3-4EE4-9635-04D0C349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F9A95-46D5-40AA-93DE-329C210C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012C-E1E8-446C-B7F2-C1C924B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B2CE3-17D4-42BD-8855-0AD46EA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1C912-83B1-411B-A66B-C733BE4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3F90-EA6E-4453-B0CB-F821627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C5EC-8582-4125-9ED8-89A93643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2043-6448-4184-9DBB-A4F2BD48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6DCD8-A8FB-4F4A-B93C-3DD34A7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055E2-88A2-40D2-A570-9E2966F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6B74-065B-4ECB-A81E-25B7288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6E68-63C7-465A-9AA7-1E97E18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D6AD1-5A04-42D1-8174-6C0B5C20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6AC7-61FA-40EB-9AC0-23580828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5D25C-B58A-45D7-BBEC-1DB97A5B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7A54B-779C-4268-AB92-EB603632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3DD41-791A-47C2-B9CA-5C55E27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51510-D96D-4085-A69D-B88E854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70B5B-2E60-42D4-9DB4-83BFC187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69C40-D810-4B48-AE39-7538A892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C0574-06D2-410D-BFF3-0FFC4086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FCEAD-261C-404B-B853-30C8A77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63C-D2E4-47BC-BA3C-C0D2552F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F35ED-B373-472B-A788-A8C86FF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AC9EB-CB4E-4BAA-96B3-3236798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4EC9-020C-4309-BAD6-68D428F6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2E3AB-520C-4492-816E-1702ADB5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7F678-87C5-401D-A04F-0B7B1404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28E95-042E-4708-9D47-2402D6C7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5E084-6D2D-4BB0-870C-3A70BED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64129-2D4E-4D24-810D-8F791491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CBDBF-2914-443D-900F-04C9938F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1760C-A455-45F6-8D0E-2C39306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3E48-25C8-4DF1-88E9-416005A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761B4-F60A-4B85-ACE1-67EAC3F4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AD3B1-FC74-455A-A879-C5F2C1F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4E601-0C2D-4620-959C-329050C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7A22C-E10E-4067-87BB-B329B38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381EC-5F0A-4ADF-9507-E46DC95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1EF1A-EEAD-4E58-9E5C-94EB0D6C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E55DD-6976-4E7D-A621-7DB448BD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94719-AB9B-424B-9CA8-94B0924F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DF8D1-3A17-4F6A-A778-091AD02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049FD-F09B-419E-A9BE-EDF852DC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853C-07C3-4932-8BE8-49660E9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B4EC6-C5ED-4A1F-ACE5-E88BDF65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CCF06-7B12-4370-AD8B-98272BF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B1A99-C522-4E7D-AE80-AE85DD6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D3989-6C0D-4EF8-9BC6-44246AF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44F19-32D4-4696-8BD5-1E229B0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E46E3-9103-4C3D-9F60-BA4C336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59C2B-2312-4519-86AD-1483D6D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D421A-5848-4CB0-85FD-A62B8BEF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BF745-C0A6-4E61-8DFF-EC9618D9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C97A8-C29A-4297-824F-D3677DB5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E8C7-E1B3-4BCF-AB1A-D2DE2C3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AAB91-C88B-470A-9D79-8178FA1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3D217-6893-48BC-A0CF-2DC1432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12374-664A-4B8F-BE2C-B329EB6B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F3336-DBEA-4D41-8395-D9F1AD2E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A5982-2E53-4533-A536-41B8250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74E76-EC9C-47C4-81C5-A632AFF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3171A-B4AF-4156-960F-AA292CB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E19A9-A515-442C-AF20-F227175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204C4-38AC-4CBB-8B9F-8B68D3E2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4C7E6-A699-4869-A69C-7C8BBB44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AE49-1A20-45FF-91D9-45209A6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BBBD6-7A6D-428A-8084-29AD32ED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D224B-845B-4250-8BEC-55556B38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BFD76-9C30-4DA9-97DC-A55B7F2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2652B-744F-4032-BC2B-4C57179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61CD8-46E8-439F-9CD0-EEC1B57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99C65-A360-4A31-8259-6E50163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DB9F4-6BFB-4BBA-9545-BEAA930E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8AFB1-E2F8-415A-BF15-4BF980E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7C87D-8452-48F4-8744-CE95081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C2BBA-DA0F-44D2-804D-682C447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3528-FB54-4F28-B49D-4FB846A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91A8D-85DB-416C-8E6E-A0D334A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256D7-BD4F-4FAB-915C-961D7BBB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F96D2-24B1-4CA2-B211-44BB24AF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A1AE7-9BE4-470B-BC18-80C2D23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6831F-BE23-4F03-A58C-398FC4E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43483-9ED4-4076-BA69-FD39E02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B793C-0534-4631-845A-267048E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304D7-04CC-4E28-8AB1-AFB887F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EB303-6256-4C47-B71D-585858FD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3AF66-E2E9-4DD4-9944-D6B11E2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D50-555F-4300-AB9C-D6AFCBE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778-F757-4C28-8482-0BC82EF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2CEDF-26D9-4B46-BDD1-E9902EC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DC2C2-2560-46D7-89AC-51814D7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06B6A-4530-49BB-BB1F-46C25AC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C1DEE-F1D3-4A5A-80FE-D5D90ED6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57081-F8DA-431F-AEF8-2D6686D3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8E173-8E39-4FCB-8859-2B75D3F0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2621C-5F68-4052-A14E-0ADB9B4E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C3D12-5BAA-4BEA-A215-672ECF90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53DEC5-0B0B-423E-B380-E5CC425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26339-9F99-4511-8D01-8EEA948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33D0-BB9C-4F99-B58A-D22E58C7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A5F02-9266-4545-80C9-B845C6B6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BF1A4-FE8E-479E-8271-BCD30FA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68F1A-36C5-4777-8D2B-EBB2FD9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3C67E-1C07-4229-9190-3C54EFD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5EA05-A67D-4734-B898-B83486D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92DB0-883E-4BCE-B486-2219C81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61C7F-EBE9-4BC1-A811-B7CC5D83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CAD-1E20-4CA2-B186-3DD24D9B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D576-8215-4389-A2CF-F6CA1F45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7884-2615-461E-82D0-0C8F6F65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E98E-720B-4C8B-89E3-C0F80C28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B84B-3155-4CC6-93AC-979FC38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C70C-F2D1-477C-8371-390951D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016F-0645-4997-90BC-8CDD6842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B695-746C-4787-AAB6-37BB4EBA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8AD-587E-452D-9458-1BF914F1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B4D1-011C-4E91-A59D-6BC2C40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243E-707B-4E81-B9F4-F52BC67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7FB9-4083-44B8-A4C6-BDCA3C8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CFBE-8C38-45A9-A84B-AF091FB7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7333-268B-4CF1-B007-CBAF65F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2FA1-DB3D-4EB1-82B7-D79965B5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1065-5F6D-4634-9DBB-363708DC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32D5-5A71-42B6-B9C6-C49B79C9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2BD8-3D48-4604-B078-1428796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41F6-7479-4BDD-88F2-8A313AAA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593-A6B4-49D6-ACAC-AF4A756A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CFF6-C84B-4F02-81CB-A792C2D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035B-70ED-4EB9-B246-C3C414AF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0D81-547C-4CFC-88D0-C769537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D021-35C3-43BE-9A5C-11FC77C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B081-7EA2-49DC-9ACE-E35B9BD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BEA7-64A8-4E31-99E9-5073D83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1A87-C69F-4BD6-99F8-E45312CB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F70D-D5BE-4A71-878C-E5FF195B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8C47-87B6-4BC4-9E98-491262E3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E6B0-EE88-41F1-91B6-E3FF583D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A1E-DE55-4DCA-A184-E0E346CE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4589-DBE9-4A5F-AEB5-9819751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6203-C281-477E-8360-A7805E50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8AAB1-E786-4245-A6AF-B7311A9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187A-E78F-42B7-A672-6680842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CD95-4070-4182-8A64-1053EDD0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E1FD-0591-4560-993D-0173324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33043-E56A-4F7F-8935-BC89DBE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69AAB-DE40-4C2B-AEA7-D208EA2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8470B-D7E3-4793-BC52-EEDF12F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0EF0-7ADD-4C48-9733-6B9BEB6E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04A-936F-4A3A-87D2-2BF2C6D3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97EF9-E974-4E6F-A02E-1DB535E6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7810E-0473-4EDC-914C-F8F61033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078C-4E32-4495-A52D-3D85CB8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9221-28C7-4AD0-AC85-B2C7926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F0EED-4BE4-4248-9199-52F3FA4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52F7-A1D7-4A5B-9903-6BE7E52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805D-90DE-4FEB-985D-3575203C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4AA4-E618-485E-BE52-7A21283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5684-725A-4C0E-B09B-AFE2ECC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D464-6C04-4169-9C9D-332DE71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94A-59F0-4AFB-9B29-C9196C6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48D5-E787-4644-A161-1ED451F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5ADE-77FA-4A94-B346-77F633AB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4CCB-4933-4999-A6FA-E59E2F70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D7D4-3DC0-48A1-AE04-2935FE3B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6B9E3-E06B-49F2-9574-4192597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7B42-BD8F-44B9-B70A-842B2F9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DFA4-9390-4811-9414-A9BF278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6BDC-891A-4D6A-894D-0EFC4C6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7D785-AC7E-4BC8-AB54-2E760D4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2140-A721-4C5F-A496-B8BF3AD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21E-D712-42DF-8173-9237E5E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F01C-3610-4444-90B2-7B9F67F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6394-E824-4B74-8A97-BC8ABC4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5E2D9-37E1-43C0-AF03-35A1101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5C49-A5A9-440C-BFEB-D7595BDE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F512F-E9A3-4940-9984-0A0B168C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2F0B7-6D31-43F2-AC64-E9D74A67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29A36-7B08-4C9B-9710-FE76C8D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5815-3F07-4E4E-9A55-316B08DD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98F36-9E39-4FD6-B2D4-41CBF2F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3903-3F32-4A4E-9DC7-EB79AD03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933-19B1-41D3-9CB3-C6059E3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9BDB-D709-4F63-B503-0F4B8E82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16CC-DD57-47C3-93D2-797A651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76D4-78FA-402B-A34C-29B8F4C2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511E-E699-4737-AFEA-5B73B13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B072-B4D0-43DD-8CE5-754876DB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C72E-AFB7-4973-870E-CF083610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899E-077B-4A72-861B-6A09F860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2EBE-22D1-472A-AC62-A5D0B111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1439-2246-43EB-BF4F-56C52ED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A904-32B4-498F-988B-026B8284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2E77-D22B-4A48-B5EE-2599EC210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95D-273B-41B5-8E25-09DB29F81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5A5-78A0-4C94-AF2D-6A65E22B8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19CA-C104-4A9A-8B62-305C7ED006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A381-E001-4520-9EC0-D0C48B1511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FFE-2915-4B47-9CFF-BB25AE6BA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FC81-EEEB-4ABA-BCB6-1D9FDDD1A0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B5B-488B-4571-87AC-9542286980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5774-C118-412A-814C-822765CDD1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CA5C-FD2D-4863-8555-2639573C00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259-E994-4404-94CE-B7FEF4D8D0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BCC-C79A-460D-89DA-DD790732F3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AC3-7780-4B04-AB38-054D5BE5B4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227F-D347-4C12-911C-EC2DE31A7E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ABA-1AE6-45E7-B9C0-889A6FC68B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AEA-F3D1-45A6-B44F-20E69A033B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75C-FCB4-44BB-B377-5AE8D1C9F5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752-FB2B-4135-90E8-32C99304EA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Date Placeholder 1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6462-3120-4C65-BD94-C8B04BEA42D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B46-AE23-4A3C-A69F-12886A0D1C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Tw Cen MT"/>
              </a:rPr>
              <a:t>НАСТАВНА ЈЕДИНИЦА БР. 14</a:t>
            </a:r>
            <a:br>
              <a:rPr sz="2900"/>
            </a:br>
            <a:r>
              <a:rPr b="1" lang="sr-CS" sz="29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br>
              <a:rPr sz="2900"/>
            </a:br>
            <a:br>
              <a:rPr sz="2900"/>
            </a:br>
            <a:r>
              <a:rPr b="0" lang="sr-RS" sz="2900" spc="-1" strike="noStrike">
                <a:solidFill>
                  <a:srgbClr val="000000"/>
                </a:solidFill>
                <a:latin typeface="Tw Cen MT"/>
              </a:rPr>
              <a:t>ОСНОВНИ ПРИНЦИПИ МЕДИЦИНЕ ЗАСНОВАНЕ НА ДОКАЗИМА И ЊИХОВА ИМПЛЕМЕНТАЦИЈА У ЈАВНО ЗДРАВСТВЕНИМ ИСТРАЖИВАЊИМ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АХТЕВА ВЕШТИНЕ ОД ЛЕКАРА И  ФАРМАЦЕУТА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 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ИМЕНУ ОДРЕЂЕНИХ ПРАВИЛА ЗА ЕВАЛУАЦИЈУ ДОКАЗА ИЗ ЛИТЕРАТУРЕ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268-E343-4CDB-A29B-DDDAEF0D04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533520" y="20574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ВАЛИД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КЛИНИЧКУ ЗНАЧАЈ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ТАКВИХ СТУДИЈА, И ОДБАЦИТИ ОНЕ КОЈЕ НАС ВОДЕ НА ПОГРЕШАН ПУ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A5B-1951-44B3-B731-E75F462039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w Cen MT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МОРА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РАНДОМИЗИРАНА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ДВОСТРУКО СЛЕПА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(ТЈ. НИ ИСПИТИВАЧИ, НИ ПАЦИЈЕНТИ НИСУ ЗНАЛИ КО ПРИМА ПЛАЦЕБО, А КО АКТИВНУ КОНТРОЛУ);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КОНТРОЛНА ГРУПА И ГРУПА КОЈА ПРИМА НОВИ ТРЕТМАН МОРАЈУ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ПО СВЕМУ СЛИЧНЕ НА ПОЧЕТКУ СТУДИЈЕ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, И МОРАЈУ СЕ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ТРЕТИРАТИ НА ИСТИ НАЧИН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СВИ ПАЦИЈЕНТИ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CE2-89D9-484B-95E4-DC266D9E42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НАЧАЈНОСТ КЛИНИЧКЕ СТУДИЈ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2000" spc="-1" strike="noStrike">
                <a:solidFill>
                  <a:srgbClr val="000000"/>
                </a:solidFill>
                <a:latin typeface="Tw Cen MT"/>
              </a:rPr>
              <a:t>БРОЈ БОЛЕСНИКА КОЈЕ ТРЕБА ЛЕЧИТИ НОВИМ ЛЕКОМ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ДА БИ СЕ ИЗБЕГАО НЕЖЕЉЕНИ ИСХОД КОД ЈЕДНОГ ОД ЊИХ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(</a:t>
            </a:r>
            <a:r>
              <a:rPr b="0" lang="sr-Latn-CS" sz="2000" spc="-1" strike="noStrike">
                <a:solidFill>
                  <a:srgbClr val="ff0000"/>
                </a:solidFill>
                <a:latin typeface="Tw Cen MT"/>
              </a:rPr>
              <a:t>NUMBER NEEDED TO TREAT -NNT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72A2-C2A1-495B-AEE8-F180F7ECEA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ИНТЕРПРЕТАЦИЈА РИЗИК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720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1     </a:t>
            </a: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NNT=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REDUKCIJA APSOLUTNOG RIZIKA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D44-1C74-4D57-8322-FF2347C118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1295280" y="27432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55680" y="4800600"/>
            <a:ext cx="87627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8"/>
          <p:cNvSpPr/>
          <p:nvPr/>
        </p:nvSpPr>
        <p:spPr>
          <a:xfrm>
            <a:off x="2590920" y="5334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380880" y="6095880"/>
            <a:ext cx="8001000" cy="457200"/>
          </a:xfrm>
          <a:prstGeom prst="rect">
            <a:avLst/>
          </a:prstGeom>
          <a:solidFill>
            <a:srgbClr val="e34b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304920" y="3505320"/>
            <a:ext cx="7696080" cy="974160"/>
          </a:xfrm>
          <a:prstGeom prst="rect">
            <a:avLst/>
          </a:prstGeom>
          <a:solidFill>
            <a:srgbClr val="aa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МАТРА СЕ ДА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ЗНАЧАЈАН ЕФЕКАТ ПОСТОЈИ КАДА ТРЕБА ЛЕЧИТИ МАЊЕ ОД 15 БОЛЕСНИ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A1A-79C9-451E-A17E-13806C4ACD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ДА БИ СТУДИЈА ПРОГНОСТИЧКОГ ФАКТОРА БИЛА ВАЛИДНА, ОНА МОРА ДА ПРАТИ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РЕПРЕЗЕНТАТИВАН 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УЗОРАК ПАЦИЈЕНАТА, КОЈИ ЈЕ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ВЕЛИКИ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ДУГО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 ДА СЕ ВИДИ КАКАВ ЋЕ БИТИ ИСХОД БОЛЕСТИ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20E5-5799-42D7-BEF2-42B57C0551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ЛИНИ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АЈ С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ЗАВИСНО ОД ВРСТЕ СТ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МЕТОДОЛ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ОМ ПОГЛЕД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А БИЛА ТИПА КЛИН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К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ЛИ КО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РТН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ТРЕБА ВИДЕТИ КОЛИКИ ЈЕ РЕЛАТИВНИ РИЗИК ОД НАСТАНКА Н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ЉЕНОГ ДЕЈСТВ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ОН В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ОД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3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РЕЗ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ЛТАТ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МА ПРАКТ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НОГ СМИСЛА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0E6-0038-4BED-99B9-718D84220A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848" name="Object 4"/>
          <p:cNvGraphicFramePr/>
          <p:nvPr/>
        </p:nvGraphicFramePr>
        <p:xfrm>
          <a:off x="762120" y="2611440"/>
          <a:ext cx="7848360" cy="23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1440"/>
                    <a:ext cx="7848360" cy="231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CF7-127A-42E0-8B6C-2B132039D4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ОРЕД ОДНОСА МОГ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ОСТИ И РЕЛАТИВНОГ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РИСНО ЈЕ ОДРЕДИТИ 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ПСОЛ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ТНО ПОВЕ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ЊЕ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О ЗАПРАВО З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100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ЈЕНТКИЊА ТРЕБ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Н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ИМА ВАЛПРОАТ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А БИ СЕ КОД ДЕТЕТА САМО ЈЕДНЕ ОД Њ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ЈАВИЛЕ АНОМАЛИЈЕ МОЗГА НА Р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(100/1 = 100)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652F-098E-4033-8781-FF63E92580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ИНДИВИДУАЛНО КЛИНИЧКО ИСКУСТВ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СЕ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МОРА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319C-EA5C-436E-960E-3667400500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ОВАКВУ ВЕЛИЧИНУ, КОЈА ПРЕДСТАВЉА </a:t>
            </a: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РЕЦИПРОЧНУ ВРЕДНОСТ АПСОЛУТНОГ ПОВЕЋАЊА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УМБЕР НЕЕДЕД ТО ХАРМ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ИЗ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МО 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БОЉЕ 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МО РАЗ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ЕТИ КАКВОМ СЕ ЗАПРАВО РИЗИ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ЗЛ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ЈЕН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ЗИМ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ОД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НИ ЛЕ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1EF-AFAA-4E60-8863-98E380BDFA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3C26-8BDF-42E6-AB08-F5C82A9000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sr-CS" sz="31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1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ATIENT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ОД ПАЦИЈЕНАТА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&gt;70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СА ИМ ,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АЛИ ХОЛЕСТЕРОЛ ЈЕ У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НОРМАЛНИМ ВРЕДНОСТИМА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NTERVENTION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ЕБА ДА СЕ УКЉУЧИ И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ЕРАПИЈА СТАТИНОМ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OMPARISON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АО ДОДАТНА ТЕРАПИЈА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UTCOME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ЈЕР СМАЊУЈЕ МОРТАЛИТЕТ ИЛИ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МОРБИДИТЕ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653F-4875-440A-A24D-4F1DD1F895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w Cen MT"/>
              </a:rPr>
              <a:t>HEART PROTECTION STUDY  </a:t>
            </a:r>
            <a:r>
              <a:rPr b="0" i="1" lang="en-GB" sz="3100" spc="-1" strike="noStrike">
                <a:solidFill>
                  <a:srgbClr val="000000"/>
                </a:solidFill>
                <a:latin typeface="Tw Cen MT"/>
              </a:rPr>
              <a:t>(LANCET 2002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STATIN THERAPY OFFERS A 33% REDUCTION IN FURTHER CHD EVENTS IN HIGH RISK PATIENTS </a:t>
            </a:r>
            <a:r>
              <a:rPr b="1" i="1" lang="en-GB" sz="2700" spc="-1" strike="noStrike">
                <a:solidFill>
                  <a:srgbClr val="000000"/>
                </a:solidFill>
                <a:latin typeface="Tw Cen MT"/>
              </a:rPr>
              <a:t>EVEN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EN CHOLESTEROL NORMAL OR LOW</a:t>
            </a: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НАШЕМ ПАЦИЈЕНУ- ПЕТРУ ПЕТРОВИЋУ </a:t>
            </a:r>
            <a:r>
              <a:rPr b="1" lang="sr-CS" sz="2100" spc="-1" strike="noStrike">
                <a:solidFill>
                  <a:srgbClr val="000000"/>
                </a:solidFill>
                <a:latin typeface="Tw Cen MT"/>
              </a:rPr>
              <a:t>ТРЕБА</a:t>
            </a: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 ПРЕПОРУЧИТИ УКЉУЧИВАЊЕ СТАТИНА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778B-76B2-40E6-BE9E-C6A6EEE9C0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7B8-7DBC-4ABD-BB95-2DE0CDDBE0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7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4C91-6527-4ACC-9663-96BE91B73F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КОРАЦИ У СПРОВОЂЕЊУ 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КРИТИЧКА ОБРАДА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ФОРМУЛИСАЊЕ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ВЕРА ПРИМЕНЉИВОСТИ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ИМЕНА РЕЗУЛТА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ЦЕНА ЕФЕКАТА 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ЗД У ПРАКС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100-3284-4723-A6FE-DFD73E67CD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Tw Cen MT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7" name="Diagram 7"/>
          <p:cNvGrpSpPr/>
          <p:nvPr/>
        </p:nvGrpSpPr>
        <p:grpSpPr>
          <a:xfrm>
            <a:off x="3929040" y="1885680"/>
            <a:ext cx="4876920" cy="3926880"/>
            <a:chOff x="3929040" y="1885680"/>
            <a:chExt cx="4876920" cy="3926880"/>
          </a:xfrm>
        </p:grpSpPr>
        <p:sp>
          <p:nvSpPr>
            <p:cNvPr id="788" name="_s1028"/>
            <p:cNvSpPr/>
            <p:nvPr/>
          </p:nvSpPr>
          <p:spPr>
            <a:xfrm flipH="1" flipV="1">
              <a:off x="5164560" y="363276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_s1029"/>
            <p:cNvSpPr/>
            <p:nvPr/>
          </p:nvSpPr>
          <p:spPr>
            <a:xfrm>
              <a:off x="3929040" y="297828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_s1030"/>
            <p:cNvSpPr/>
            <p:nvPr/>
          </p:nvSpPr>
          <p:spPr>
            <a:xfrm flipH="1">
              <a:off x="5621400" y="439020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_s1031"/>
            <p:cNvSpPr/>
            <p:nvPr/>
          </p:nvSpPr>
          <p:spPr>
            <a:xfrm>
              <a:off x="4618440" y="475344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_s1032"/>
            <p:cNvSpPr/>
            <p:nvPr/>
          </p:nvSpPr>
          <p:spPr>
            <a:xfrm>
              <a:off x="6738120" y="439020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_s1033"/>
            <p:cNvSpPr/>
            <p:nvPr/>
          </p:nvSpPr>
          <p:spPr>
            <a:xfrm>
              <a:off x="6848280" y="475344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_s1034"/>
            <p:cNvSpPr/>
            <p:nvPr/>
          </p:nvSpPr>
          <p:spPr>
            <a:xfrm flipV="1">
              <a:off x="6968880" y="363492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_s1035"/>
            <p:cNvSpPr/>
            <p:nvPr/>
          </p:nvSpPr>
          <p:spPr>
            <a:xfrm>
              <a:off x="7539480" y="297828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_s1036"/>
            <p:cNvSpPr/>
            <p:nvPr/>
          </p:nvSpPr>
          <p:spPr>
            <a:xfrm flipV="1">
              <a:off x="6366600" y="290304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_s1037"/>
            <p:cNvSpPr/>
            <p:nvPr/>
          </p:nvSpPr>
          <p:spPr>
            <a:xfrm>
              <a:off x="5699880" y="188568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_s1038"/>
            <p:cNvSpPr/>
            <p:nvPr/>
          </p:nvSpPr>
          <p:spPr>
            <a:xfrm>
              <a:off x="5699880" y="346968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AutoShape 31"/>
            <p:cNvSpPr/>
            <p:nvPr/>
          </p:nvSpPr>
          <p:spPr>
            <a:xfrm>
              <a:off x="7238520" y="213228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0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D66-C083-4078-83DD-7162482174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w Cen MT"/>
              </a:rPr>
              <a:t>НАУЧНОМ МЕТОД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ДЕНТИФИКОВАЊЕ ПРОБЛЕМ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ИКУПЉАЊЕ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ЕВАЛУАЦИЈА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ЕПОРУК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Х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62924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ПОРЕД ТОГА НА ДОНОШЕЊЕ ОДЛУКА УТИЧ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КУСТВ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АУТОРИТЕ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ТРАЖИВ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ЛОГИЧКО РАЗМИШЉ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F6C-F10F-43BA-98F4-0B4519FDB1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7F9-E6FD-4CCD-A9A2-80756FE25E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У РАД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А БОЛЕС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А СЕ СПОНТАНО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КОЈЕ МОРАМО 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ВА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НА ОСНОВ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И </a:t>
            </a:r>
            <a:r>
              <a:rPr b="1" i="1" lang="ru-RU" sz="2400" spc="-1" strike="noStrike">
                <a:solidFill>
                  <a:srgbClr val="ff0000"/>
                </a:solidFill>
                <a:latin typeface="Tw Cen MT"/>
              </a:rPr>
              <a:t>ПОСТАВЉАМО ПИТАЊ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КОЈА ПОТОМ 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О ОДГОВОР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СЕ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СТАВЉ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ЗЕ БОЛЕ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ТКР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ЊЕНОГ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РО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СТ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К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ЕТОДА КОЈЕ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 НАЈПРЕ ДОВЕСТИ ДО ДИЈАГНОЗ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НА Л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А 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РОГНОЗЕ ЛЕЧЕЊА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508-8CF8-4AC3-9785-13ABC4E6D2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Tw Cen MT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ПЛАНИРА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С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Х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АЛТЕРНАТИВ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254D-3358-40DC-A350-E0EC257C0B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Е СВЕГА ТРЕБА ПРЕ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Т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БАЗЕ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НА ИНТЕРНЕТ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Е САДР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 СИСТЕМАТСКЕ ПРЕГЛЕДН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ЛАНКЕ О ПОЈЕДИНИМ КЛИ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ИМ ПРОБЛЕМИМ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НАЈПОУЗДАНИЈА ОД ТАКВИХ БАЗА ЈЕ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КОХРАНОВА БАЗА ПОДАТА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D53E-B2D1-46AB-8D12-8C9ACD5AF3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.Milovanovic</dc:creator>
  <dc:description/>
  <dc:language>en-US</dc:language>
  <cp:lastModifiedBy>User</cp:lastModifiedBy>
  <dcterms:modified xsi:type="dcterms:W3CDTF">2019-02-10T07:58:3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